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AC80-5F37-48C3-8DCE-C40D6BA33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565F-5EB0-4E41-823F-7210C4E57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42D8-FC49-4DF4-A91B-06186D40B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4220-E5F7-4E33-920F-88DD4ED83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010D-CF0A-498A-BC6A-1E5E3F23A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048A-B0C9-449D-8AC2-ED7CA0DAD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BA31-EF0D-4302-BAA7-E858382D0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B449-7919-41BB-8E2D-7BBBDA483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20B0-E8B3-46B3-8918-8ABA5B7E8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1C92-91F8-4416-81BE-917FCD858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D68D-D033-41CF-B3D8-533A5AAC6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41AE-A7D1-4E71-AE68-8EA6472DE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DE75-A297-4016-9EB6-F63219A72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E0F5-DA14-4678-8F64-7FE77E174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E837-93AE-4CCB-A1D2-B378A9165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D575-A590-4DF6-906F-65FBB4654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96A2-C710-4E98-8AC7-63356869C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28B7-C504-430A-92B2-13ECAF3ED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5B37-4374-486B-BE7F-FA910797D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9447-F13C-4109-B661-48372B62E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ED80-6F71-4DEC-A98F-51B8A8803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4CA1-551A-45D8-8F63-8971C0B1C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F8E0-07A7-4A83-97AB-353A54ACF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CB4B-A308-4D86-95C9-1C2251FAD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5AFC-88BA-4063-9359-9CE3DC554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F01C-0CAA-49DD-99DA-FC4FF859B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8A94-F44B-4F29-B640-8D25866E5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DCB9-CDA0-4AA1-8CC9-2B6E9551A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3122-34D8-427A-A94F-80D1D5180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4222-1E22-421F-B1CB-5EB3DC437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3091-6A14-4A1E-8687-D706B97D4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FA8B-E1F6-4631-BC68-2CAC96522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B353-1DA5-41BC-B8B7-374252538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6588-61B2-4677-AE4E-C8FA695FA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E649-E52F-4EA8-83A8-FEEE4023F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F72A-1823-4375-A147-A3A77EF8D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BC07-0F75-4910-9BCD-C08A362D449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8" name="Picture 1027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0" name="Group 3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11" name="Text Box 4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5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6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7"/>
          <p:cNvCxnSpPr>
            <a:stCxn id="313" idx="2"/>
            <a:endCxn id="312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8"/>
          <p:cNvCxnSpPr>
            <a:stCxn id="313" idx="2"/>
            <a:endCxn id="316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7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0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19" name="Text Box 11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2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3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14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22" name="Text Box 15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16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4" name="AutoShape 17"/>
          <p:cNvCxnSpPr>
            <a:stCxn id="313" idx="2"/>
            <a:endCxn id="323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25" name="Group 18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26" name="Text Box 19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0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8" name="AutoShape 21"/>
          <p:cNvCxnSpPr>
            <a:stCxn id="313" idx="2"/>
            <a:endCxn id="327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32" name="Text Box 5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Rectangle 7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AutoShape 9"/>
          <p:cNvCxnSpPr>
            <a:stCxn id="335" idx="2"/>
            <a:endCxn id="333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7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11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13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41" name="Text Box 14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16"/>
          <p:cNvCxnSpPr>
            <a:stCxn id="344" idx="2"/>
            <a:endCxn id="342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45" name="Group 17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46" name="Text Box 18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8" name="AutoShape 20"/>
          <p:cNvCxnSpPr>
            <a:stCxn id="344" idx="2"/>
            <a:endCxn id="347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4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22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50" name="Text Box 23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Oval 24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2" name="AutoShape 25"/>
          <p:cNvCxnSpPr>
            <a:stCxn id="353" idx="2"/>
            <a:endCxn id="351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4" name="Rectangle 26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27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AutoShape 28"/>
          <p:cNvCxnSpPr>
            <a:stCxn id="341" idx="3"/>
            <a:endCxn id="338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7" name="AutoShape 29"/>
          <p:cNvCxnSpPr>
            <a:stCxn id="346" idx="3"/>
            <a:endCxn id="355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8" name="Rectangle 30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2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33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61" name="Text Box 34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Oval 35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36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4" name="AutoShape 37"/>
          <p:cNvCxnSpPr>
            <a:stCxn id="359" idx="2"/>
            <a:endCxn id="362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5" name="Rectangle 38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9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4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Text Box 5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LENGTH_MEASURE_WITH_UNIT (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LENGTH_MEASURE_WITH_UNIT (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LENGTH_MEASURE_WITH_UNIT (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LENGTH_MEASURE_WITH_UNIT (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nternal_dep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6 = LENGTH_MEASURE_WITH_UNIT (LENGTH_MEASURE(280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89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98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76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27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75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74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73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ength_measure_with_uni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4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378" name="Text Box 5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6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7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1" name="AutoShape 8"/>
          <p:cNvCxnSpPr>
            <a:endCxn id="379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2" name="Text Box 13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4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AutoShape 15"/>
          <p:cNvCxnSpPr>
            <a:stCxn id="378" idx="3"/>
            <a:endCxn id="383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Text Box 17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8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19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20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AutoShape 21"/>
          <p:cNvCxnSpPr>
            <a:stCxn id="376" idx="1"/>
            <a:endCxn id="387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Text Box 22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3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4"/>
          <p:cNvSpPr/>
          <p:nvPr/>
        </p:nvSpPr>
        <p:spPr>
          <a:xfrm>
            <a:off x="346392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25"/>
          <p:cNvSpPr/>
          <p:nvPr/>
        </p:nvSpPr>
        <p:spPr>
          <a:xfrm>
            <a:off x="2592360" y="24321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4" name="AutoShape 30"/>
          <p:cNvCxnSpPr>
            <a:stCxn id="391" idx="2"/>
            <a:endCxn id="392" idx="0"/>
          </p:cNvCxnSpPr>
          <p:nvPr/>
        </p:nvCxnSpPr>
        <p:spPr>
          <a:xfrm rot="5400000">
            <a:off x="4274640" y="1133280"/>
            <a:ext cx="354600" cy="178992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95" name="Text Box 35"/>
          <p:cNvSpPr/>
          <p:nvPr/>
        </p:nvSpPr>
        <p:spPr>
          <a:xfrm>
            <a:off x="854640" y="469116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37"/>
          <p:cNvSpPr/>
          <p:nvPr/>
        </p:nvSpPr>
        <p:spPr>
          <a:xfrm>
            <a:off x="1166760" y="45054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8"/>
          <p:cNvSpPr/>
          <p:nvPr/>
        </p:nvSpPr>
        <p:spPr>
          <a:xfrm>
            <a:off x="1628640" y="469116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AutoShape 39"/>
          <p:cNvCxnSpPr>
            <a:stCxn id="399" idx="2"/>
            <a:endCxn id="396" idx="0"/>
          </p:cNvCxnSpPr>
          <p:nvPr/>
        </p:nvCxnSpPr>
        <p:spPr>
          <a:xfrm>
            <a:off x="1235160" y="407484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0" name="Oval 41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42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AutoShape 49"/>
          <p:cNvCxnSpPr>
            <a:stCxn id="382" idx="1"/>
            <a:endCxn id="400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9" name="Text Box 55"/>
          <p:cNvSpPr/>
          <p:nvPr/>
        </p:nvSpPr>
        <p:spPr>
          <a:xfrm>
            <a:off x="327960" y="366552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6"/>
          <p:cNvSpPr/>
          <p:nvPr/>
        </p:nvSpPr>
        <p:spPr>
          <a:xfrm>
            <a:off x="1166760" y="350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5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AutoShape 58"/>
          <p:cNvCxnSpPr>
            <a:stCxn id="386" idx="2"/>
            <a:endCxn id="403" idx="0"/>
          </p:cNvCxnSpPr>
          <p:nvPr/>
        </p:nvCxnSpPr>
        <p:spPr>
          <a:xfrm flipH="1" rot="16200000">
            <a:off x="429480" y="2679480"/>
            <a:ext cx="1622880" cy="396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6" name="Group 96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07" name="AutoShape 70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768600 w 1335240"/>
                <a:gd name="textAreaRight" fmla="*/ 1022400 w 1335240"/>
                <a:gd name="textAreaTop" fmla="*/ 115920 h 939960"/>
                <a:gd name="textAreaBottom" fmla="*/ 41292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2610" y="0"/>
                  </a:lnTo>
                  <a:lnTo>
                    <a:pt x="12610" y="2663"/>
                  </a:lnTo>
                  <a:lnTo>
                    <a:pt x="12427" y="2663"/>
                  </a:lnTo>
                  <a:cubicBezTo>
                    <a:pt x="5564" y="2663"/>
                    <a:pt x="0" y="6914"/>
                    <a:pt x="0" y="12158"/>
                  </a:cubicBezTo>
                  <a:lnTo>
                    <a:pt x="0" y="21600"/>
                  </a:lnTo>
                  <a:lnTo>
                    <a:pt x="6983" y="21600"/>
                  </a:lnTo>
                  <a:lnTo>
                    <a:pt x="6983" y="12158"/>
                  </a:lnTo>
                  <a:cubicBezTo>
                    <a:pt x="6983" y="10687"/>
                    <a:pt x="9420" y="9495"/>
                    <a:pt x="12427" y="9495"/>
                  </a:cubicBezTo>
                  <a:lnTo>
                    <a:pt x="12610" y="9495"/>
                  </a:lnTo>
                  <a:lnTo>
                    <a:pt x="1261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71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939960 w 1633680"/>
                <a:gd name="textAreaRight" fmla="*/ 1467000 w 1633680"/>
                <a:gd name="textAreaTop" fmla="*/ 177480 h 1112760"/>
                <a:gd name="textAreaBottom" fmla="*/ 44892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6520" y="0"/>
                  </a:lnTo>
                  <a:lnTo>
                    <a:pt x="16520" y="3451"/>
                  </a:lnTo>
                  <a:lnTo>
                    <a:pt x="12427" y="3451"/>
                  </a:lnTo>
                  <a:cubicBezTo>
                    <a:pt x="5564" y="3451"/>
                    <a:pt x="0" y="7349"/>
                    <a:pt x="0" y="12158"/>
                  </a:cubicBezTo>
                  <a:lnTo>
                    <a:pt x="0" y="21600"/>
                  </a:lnTo>
                  <a:lnTo>
                    <a:pt x="5372" y="21600"/>
                  </a:lnTo>
                  <a:lnTo>
                    <a:pt x="5372" y="12158"/>
                  </a:lnTo>
                  <a:cubicBezTo>
                    <a:pt x="5372" y="10252"/>
                    <a:pt x="8531" y="8707"/>
                    <a:pt x="12427" y="8707"/>
                  </a:cubicBezTo>
                  <a:lnTo>
                    <a:pt x="16520" y="8707"/>
                  </a:lnTo>
                  <a:lnTo>
                    <a:pt x="1652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72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Text Box 77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78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79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93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14" name="Oval 81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82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83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94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18" name="Oval 85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86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87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21" name="AutoShape 88"/>
          <p:cNvCxnSpPr>
            <a:stCxn id="410" idx="1"/>
            <a:endCxn id="414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2" name="AutoShape 89"/>
          <p:cNvCxnSpPr>
            <a:stCxn id="410" idx="2"/>
            <a:endCxn id="418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3" name="Rectangle 90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AutoShape 91"/>
          <p:cNvCxnSpPr>
            <a:stCxn id="382" idx="2"/>
            <a:endCxn id="411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Object 2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Text Box 3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6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7"/>
          <p:cNvCxnSpPr>
            <a:stCxn id="427" idx="3"/>
            <a:endCxn id="430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NUMERIC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NUMERIC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NUMERIC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NUMERIC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725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212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745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2025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72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925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775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875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2375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5225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Oval 3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AutoShape 16"/>
          <p:cNvCxnSpPr>
            <a:stCxn id="438" idx="2"/>
            <a:endCxn id="439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Rectangle 18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28"/>
          <p:cNvCxnSpPr>
            <a:stCxn id="443" idx="1"/>
            <a:endCxn id="444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5" name="Rectangle 33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36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AutoShape 44"/>
          <p:cNvCxnSpPr>
            <a:stCxn id="438" idx="2"/>
            <a:endCxn id="448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Text Box 45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6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48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0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1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52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53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54"/>
          <p:cNvCxnSpPr>
            <a:stCxn id="446" idx="0"/>
            <a:endCxn id="454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7" name="Text Box 55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56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57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AutoShape 58"/>
          <p:cNvCxnSpPr>
            <a:stCxn id="461" idx="2"/>
            <a:endCxn id="458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2" name="Oval 59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60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AutoShape 61"/>
          <p:cNvCxnSpPr>
            <a:stCxn id="465" idx="2"/>
            <a:endCxn id="462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Text Box 62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63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64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65"/>
          <p:cNvCxnSpPr>
            <a:stCxn id="450" idx="2"/>
            <a:endCxn id="46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Text Box 70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71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72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Group 73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473" name="Oval 74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Text Box 75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76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Group 77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477" name="Oval 78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Text Box 79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80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0" name="AutoShape 81"/>
          <p:cNvCxnSpPr>
            <a:stCxn id="469" idx="1"/>
            <a:endCxn id="473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AutoShape 82"/>
          <p:cNvCxnSpPr>
            <a:stCxn id="469" idx="2"/>
            <a:endCxn id="477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2" name="Rectangle 83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AutoShape 84"/>
          <p:cNvCxnSpPr>
            <a:stCxn id="484" idx="2"/>
            <a:endCxn id="470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5" name="Oval 85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86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AutoShape 87"/>
          <p:cNvCxnSpPr>
            <a:stCxn id="455" idx="1"/>
            <a:endCxn id="485" idx="6"/>
          </p:cNvCxnSpPr>
          <p:nvPr/>
        </p:nvCxnSpPr>
        <p:spPr>
          <a:xfrm flipH="1" flipV="1">
            <a:off x="4029120" y="437400"/>
            <a:ext cx="6037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88" name="AutoShape 88"/>
          <p:cNvCxnSpPr>
            <a:stCxn id="446" idx="1"/>
            <a:endCxn id="43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9" name="Text Box 89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90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1" name="AutoShape 91"/>
          <p:cNvCxnSpPr>
            <a:stCxn id="490" idx="6"/>
            <a:endCxn id="455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2" name="AutoShape 92"/>
          <p:cNvCxnSpPr>
            <a:endCxn id="493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Text Box 95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99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AutoShape 101"/>
          <p:cNvCxnSpPr>
            <a:stCxn id="496" idx="2"/>
            <a:endCxn id="497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98" name="Group 102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499" name="Text Box 103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104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105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2" name="AutoShape 106"/>
          <p:cNvCxnSpPr>
            <a:stCxn id="443" idx="2"/>
            <a:endCxn id="500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3" name="Rectangle 107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08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38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40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109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110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Group 112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496" name="Text Box 97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Oval 111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115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484" name="Text Box 42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13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Oval 114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117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AutoShape 118"/>
          <p:cNvCxnSpPr>
            <a:stCxn id="508" idx="2"/>
            <a:endCxn id="510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1" name="AutoShape 119"/>
          <p:cNvCxnSpPr>
            <a:stCxn id="469" idx="3"/>
            <a:endCxn id="510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5" name="Rectangle 122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125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10" name="Text Box 13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123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124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Rectangle 126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Group 138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17" name="Text Box 128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Oval 134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AutoShape 135"/>
          <p:cNvCxnSpPr>
            <a:stCxn id="518" idx="6"/>
            <a:endCxn id="496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20" name="Group 139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21" name="Text Box 131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Oval 136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3" name="AutoShape 137"/>
          <p:cNvCxnSpPr>
            <a:stCxn id="522" idx="6"/>
            <a:endCxn id="496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5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98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AutoShape 12"/>
          <p:cNvCxnSpPr>
            <a:stCxn id="93" idx="2"/>
            <a:endCxn id="96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" name="AutoShape 13"/>
          <p:cNvCxnSpPr>
            <a:stCxn id="93" idx="2"/>
            <a:endCxn id="99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27"/>
          <p:cNvCxnSpPr>
            <a:stCxn id="105" idx="0"/>
            <a:endCxn id="10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6" name="AutoShape 28"/>
          <p:cNvCxnSpPr>
            <a:stCxn id="104" idx="0"/>
            <a:endCxn id="10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7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30"/>
          <p:cNvCxnSpPr>
            <a:stCxn id="113" idx="0"/>
            <a:endCxn id="117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9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32"/>
          <p:cNvCxnSpPr>
            <a:stCxn id="110" idx="0"/>
            <a:endCxn id="119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AutoShape 36"/>
          <p:cNvCxnSpPr>
            <a:stCxn id="107" idx="0"/>
            <a:endCxn id="123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AutoShape 38"/>
          <p:cNvCxnSpPr>
            <a:stCxn id="111" idx="0"/>
            <a:endCxn id="125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1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AutoShape 47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8819"/>
              <a:gd name="adj2" fmla="val 83037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Oval 2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AutoShape 3"/>
          <p:cNvCxnSpPr>
            <a:stCxn id="528" idx="2"/>
            <a:endCxn id="529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0" name="Rectangle 4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AutoShape 6"/>
          <p:cNvCxnSpPr>
            <a:stCxn id="532" idx="1"/>
            <a:endCxn id="533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Rectangle 7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AutoShape 9"/>
          <p:cNvCxnSpPr>
            <a:stCxn id="528" idx="2"/>
            <a:endCxn id="537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8" name="Text Box 10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2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14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15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AutoShape 17"/>
          <p:cNvCxnSpPr>
            <a:stCxn id="535" idx="0"/>
            <a:endCxn id="54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Text Box 18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19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20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AutoShape 21"/>
          <p:cNvCxnSpPr>
            <a:stCxn id="550" idx="2"/>
            <a:endCxn id="547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51" name="Group 84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52" name="Oval 22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4" name="AutoShape 24"/>
          <p:cNvCxnSpPr>
            <a:stCxn id="555" idx="2"/>
            <a:endCxn id="556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0" name="Text Box 25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26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9" name="AutoShape 28"/>
          <p:cNvCxnSpPr>
            <a:stCxn id="539" idx="2"/>
            <a:endCxn id="557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0" name="Text Box 29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30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AutoShape 41"/>
          <p:cNvCxnSpPr>
            <a:stCxn id="560" idx="0"/>
            <a:endCxn id="535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2" name="Rectangle 42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AutoShape 43"/>
          <p:cNvCxnSpPr>
            <a:stCxn id="555" idx="1"/>
            <a:endCxn id="552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4" name="Oval 44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5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AutoShape 47"/>
          <p:cNvCxnSpPr>
            <a:stCxn id="535" idx="1"/>
            <a:endCxn id="52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67" name="AutoShape 50"/>
          <p:cNvCxnSpPr>
            <a:stCxn id="564" idx="4"/>
            <a:endCxn id="535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68" name="AutoShape 51"/>
          <p:cNvCxnSpPr>
            <a:stCxn id="535" idx="3"/>
            <a:endCxn id="569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Text Box 52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AutoShape 54"/>
          <p:cNvCxnSpPr>
            <a:stCxn id="572" idx="2"/>
            <a:endCxn id="573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74" name="Group 55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575" name="Text Box 56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57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58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78" name="AutoShape 59"/>
          <p:cNvCxnSpPr>
            <a:stCxn id="532" idx="2"/>
            <a:endCxn id="576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9" name="Rectangle 60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1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Group 62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28" name="Text Box 63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64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65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Group 90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32" name="Text Box 53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66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Group 67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572" name="Text Box 68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69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5" name="AutoShape 75"/>
          <p:cNvCxnSpPr>
            <a:stCxn id="586" idx="2"/>
            <a:endCxn id="587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8" name="Group 89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589" name="Group 70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55" name="Text Box 71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72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73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Rectangle 74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77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Group 88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587" name="Text Box 79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Oval 80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Oval 81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83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85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6" name="AutoShape 87"/>
          <p:cNvCxnSpPr>
            <a:stCxn id="560" idx="2"/>
            <a:endCxn id="593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00" name="Text Box 5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Rectangle 7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AutoShape 9"/>
          <p:cNvCxnSpPr>
            <a:stCxn id="603" idx="2"/>
            <a:endCxn id="60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5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11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2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13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09" name="Text Box 14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1" name="AutoShape 16"/>
          <p:cNvCxnSpPr>
            <a:stCxn id="612" idx="2"/>
            <a:endCxn id="61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13" name="Group 17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14" name="Text Box 18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6" name="AutoShape 20"/>
          <p:cNvCxnSpPr>
            <a:stCxn id="612" idx="2"/>
            <a:endCxn id="61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12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Group 22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18" name="Text Box 23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Oval 24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0" name="AutoShape 25"/>
          <p:cNvCxnSpPr>
            <a:stCxn id="621" idx="3"/>
            <a:endCxn id="619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22" name="AutoShape 26"/>
          <p:cNvCxnSpPr>
            <a:stCxn id="614" idx="3"/>
            <a:endCxn id="606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23" name="Rectangle 27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28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Group 29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21" name="Text Box 30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7" name="AutoShape 32"/>
          <p:cNvCxnSpPr>
            <a:stCxn id="623" idx="2"/>
            <a:endCxn id="626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28" name="Group 33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29" name="Text Box 34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Oval 35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1" name="AutoShape 36"/>
          <p:cNvCxnSpPr>
            <a:stCxn id="623" idx="2"/>
            <a:endCxn id="630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2" name="Rectangle 37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8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39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Group 40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36" name="Oval 41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43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Oval 44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5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6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2" name="AutoShape 47"/>
          <p:cNvCxnSpPr>
            <a:stCxn id="609" idx="3"/>
            <a:endCxn id="636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3" name="AutoShape 48"/>
          <p:cNvCxnSpPr>
            <a:stCxn id="644" idx="0"/>
            <a:endCxn id="639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45" name="Rectangle 49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51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8" name="Group 3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49" name="Text Box 4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Oval 5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Rectangle 6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AutoShape 8"/>
          <p:cNvCxnSpPr>
            <a:stCxn id="652" idx="2"/>
            <a:endCxn id="650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4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10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12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58" name="Text Box 13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14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0" name="AutoShape 15"/>
          <p:cNvCxnSpPr>
            <a:stCxn id="661" idx="2"/>
            <a:endCxn id="659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2" name="Group 16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63" name="Text Box 17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Oval 18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5" name="AutoShape 19"/>
          <p:cNvCxnSpPr>
            <a:stCxn id="661" idx="2"/>
            <a:endCxn id="664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1" name="Rectangle 20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AutoShape 21"/>
          <p:cNvCxnSpPr>
            <a:stCxn id="663" idx="3"/>
            <a:endCxn id="655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7" name="Rectangle 22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23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24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25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1" name="Oval 26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27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28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4" name="AutoShape 29"/>
          <p:cNvCxnSpPr>
            <a:stCxn id="658" idx="3"/>
            <a:endCxn id="671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Rectangle 30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31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32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678" name="Line 33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34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35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36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37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38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85" name="Object 3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688" name="AutoShape 3"/>
          <p:cNvCxnSpPr>
            <a:stCxn id="689" idx="2"/>
            <a:endCxn id="690" idx="0"/>
          </p:cNvCxnSpPr>
          <p:nvPr/>
        </p:nvCxnSpPr>
        <p:spPr>
          <a:xfrm>
            <a:off x="6444720" y="350496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Rectangle 4"/>
          <p:cNvSpPr/>
          <p:nvPr/>
        </p:nvSpPr>
        <p:spPr>
          <a:xfrm>
            <a:off x="1473480" y="226224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Oval 5"/>
          <p:cNvSpPr/>
          <p:nvPr/>
        </p:nvSpPr>
        <p:spPr>
          <a:xfrm>
            <a:off x="2828880" y="28684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3753360" y="12780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7"/>
          <p:cNvSpPr/>
          <p:nvPr/>
        </p:nvSpPr>
        <p:spPr>
          <a:xfrm>
            <a:off x="6910920" y="1231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AutoShape 8"/>
          <p:cNvCxnSpPr>
            <a:stCxn id="693" idx="3"/>
            <a:endCxn id="696" idx="2"/>
          </p:cNvCxnSpPr>
          <p:nvPr/>
        </p:nvCxnSpPr>
        <p:spPr>
          <a:xfrm>
            <a:off x="5548320" y="1642680"/>
            <a:ext cx="113904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6" name="Oval 9"/>
          <p:cNvSpPr/>
          <p:nvPr/>
        </p:nvSpPr>
        <p:spPr>
          <a:xfrm>
            <a:off x="6715080" y="156996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10"/>
          <p:cNvSpPr/>
          <p:nvPr/>
        </p:nvSpPr>
        <p:spPr>
          <a:xfrm>
            <a:off x="4594320" y="201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8" name="AutoShape 11"/>
          <p:cNvCxnSpPr>
            <a:stCxn id="694" idx="2"/>
            <a:endCxn id="697" idx="4"/>
          </p:cNvCxnSpPr>
          <p:nvPr/>
        </p:nvCxnSpPr>
        <p:spPr>
          <a:xfrm rot="5400000">
            <a:off x="6128280" y="517320"/>
            <a:ext cx="208800" cy="3126600"/>
          </a:xfrm>
          <a:prstGeom prst="bentConnector3">
            <a:avLst>
              <a:gd name="adj1" fmla="val 2663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Rectangle 12"/>
          <p:cNvSpPr/>
          <p:nvPr/>
        </p:nvSpPr>
        <p:spPr>
          <a:xfrm>
            <a:off x="5235840" y="21463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3"/>
          <p:cNvSpPr/>
          <p:nvPr/>
        </p:nvSpPr>
        <p:spPr>
          <a:xfrm>
            <a:off x="461160" y="12762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14"/>
          <p:cNvSpPr/>
          <p:nvPr/>
        </p:nvSpPr>
        <p:spPr>
          <a:xfrm>
            <a:off x="2268360" y="156996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AutoShape 15"/>
          <p:cNvCxnSpPr>
            <a:stCxn id="701" idx="6"/>
            <a:endCxn id="693" idx="1"/>
          </p:cNvCxnSpPr>
          <p:nvPr/>
        </p:nvCxnSpPr>
        <p:spPr>
          <a:xfrm flipV="1">
            <a:off x="2449440" y="1642320"/>
            <a:ext cx="127872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9" name="Text Box 16"/>
          <p:cNvSpPr/>
          <p:nvPr/>
        </p:nvSpPr>
        <p:spPr>
          <a:xfrm>
            <a:off x="5767200" y="30654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Group 17"/>
          <p:cNvGrpSpPr/>
          <p:nvPr/>
        </p:nvGrpSpPr>
        <p:grpSpPr>
          <a:xfrm>
            <a:off x="1580400" y="3036960"/>
            <a:ext cx="2878920" cy="398880"/>
            <a:chOff x="1580400" y="3036960"/>
            <a:chExt cx="2878920" cy="398880"/>
          </a:xfrm>
        </p:grpSpPr>
        <p:sp>
          <p:nvSpPr>
            <p:cNvPr id="704" name="Text Box 18"/>
            <p:cNvSpPr/>
            <p:nvPr/>
          </p:nvSpPr>
          <p:spPr>
            <a:xfrm>
              <a:off x="1580400" y="3036960"/>
              <a:ext cx="26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xis_2_placement_3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Oval 19"/>
            <p:cNvSpPr/>
            <p:nvPr/>
          </p:nvSpPr>
          <p:spPr>
            <a:xfrm>
              <a:off x="4272120" y="31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AutoShape 20"/>
          <p:cNvCxnSpPr>
            <a:stCxn id="689" idx="1"/>
            <a:endCxn id="705" idx="6"/>
          </p:cNvCxnSpPr>
          <p:nvPr/>
        </p:nvCxnSpPr>
        <p:spPr>
          <a:xfrm rot="10800000">
            <a:off x="4487040" y="3274200"/>
            <a:ext cx="1251720" cy="3960"/>
          </a:xfrm>
          <a:prstGeom prst="bentConnector3">
            <a:avLst>
              <a:gd name="adj1" fmla="val 504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07" name="AutoShape 21"/>
          <p:cNvCxnSpPr>
            <a:stCxn id="700" idx="2"/>
            <a:endCxn id="692" idx="0"/>
          </p:cNvCxnSpPr>
          <p:nvPr/>
        </p:nvCxnSpPr>
        <p:spPr>
          <a:xfrm flipH="1" rot="16200000">
            <a:off x="1707840" y="1657800"/>
            <a:ext cx="834120" cy="1559880"/>
          </a:xfrm>
          <a:prstGeom prst="bentConnector3">
            <a:avLst>
              <a:gd name="adj1" fmla="val 740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Rectangle 22"/>
          <p:cNvSpPr/>
          <p:nvPr/>
        </p:nvSpPr>
        <p:spPr>
          <a:xfrm>
            <a:off x="6471360" y="51228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3"/>
          <p:cNvSpPr/>
          <p:nvPr/>
        </p:nvSpPr>
        <p:spPr>
          <a:xfrm>
            <a:off x="2375280" y="452772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24"/>
          <p:cNvSpPr/>
          <p:nvPr/>
        </p:nvSpPr>
        <p:spPr>
          <a:xfrm>
            <a:off x="6514560" y="37353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25"/>
          <p:cNvGrpSpPr/>
          <p:nvPr/>
        </p:nvGrpSpPr>
        <p:grpSpPr>
          <a:xfrm>
            <a:off x="5517000" y="4321080"/>
            <a:ext cx="1909080" cy="559440"/>
            <a:chOff x="5517000" y="4321080"/>
            <a:chExt cx="1909080" cy="559440"/>
          </a:xfrm>
        </p:grpSpPr>
        <p:sp>
          <p:nvSpPr>
            <p:cNvPr id="712" name="Text Box 26"/>
            <p:cNvSpPr/>
            <p:nvPr/>
          </p:nvSpPr>
          <p:spPr>
            <a:xfrm>
              <a:off x="5517000" y="44816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Oval 27"/>
            <p:cNvSpPr/>
            <p:nvPr/>
          </p:nvSpPr>
          <p:spPr>
            <a:xfrm>
              <a:off x="6380280" y="432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28"/>
          <p:cNvGrpSpPr/>
          <p:nvPr/>
        </p:nvGrpSpPr>
        <p:grpSpPr>
          <a:xfrm>
            <a:off x="5605920" y="5600880"/>
            <a:ext cx="1814400" cy="553680"/>
            <a:chOff x="5605920" y="5600880"/>
            <a:chExt cx="1814400" cy="553680"/>
          </a:xfrm>
        </p:grpSpPr>
        <p:sp>
          <p:nvSpPr>
            <p:cNvPr id="714" name="Text Box 29"/>
            <p:cNvSpPr/>
            <p:nvPr/>
          </p:nvSpPr>
          <p:spPr>
            <a:xfrm>
              <a:off x="5605920" y="57862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30"/>
            <p:cNvSpPr/>
            <p:nvPr/>
          </p:nvSpPr>
          <p:spPr>
            <a:xfrm>
              <a:off x="6399000" y="5600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6" name="AutoShape 31"/>
          <p:cNvCxnSpPr>
            <a:stCxn id="717" idx="6"/>
            <a:endCxn id="714" idx="1"/>
          </p:cNvCxnSpPr>
          <p:nvPr/>
        </p:nvCxnSpPr>
        <p:spPr>
          <a:xfrm flipV="1">
            <a:off x="3641400" y="5984640"/>
            <a:ext cx="1932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8" name="AutoShape 32"/>
          <p:cNvCxnSpPr>
            <a:stCxn id="712" idx="2"/>
            <a:endCxn id="715" idx="0"/>
          </p:cNvCxnSpPr>
          <p:nvPr/>
        </p:nvCxnSpPr>
        <p:spPr>
          <a:xfrm>
            <a:off x="6471720" y="49212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9" name="AutoShape 33"/>
          <p:cNvCxnSpPr>
            <a:stCxn id="720" idx="2"/>
            <a:endCxn id="721" idx="0"/>
          </p:cNvCxnSpPr>
          <p:nvPr/>
        </p:nvCxnSpPr>
        <p:spPr>
          <a:xfrm flipH="1" rot="16200000">
            <a:off x="1709640" y="35776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22" name="Rectangle 34"/>
          <p:cNvSpPr/>
          <p:nvPr/>
        </p:nvSpPr>
        <p:spPr>
          <a:xfrm>
            <a:off x="418680" y="368604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2554920" y="5614920"/>
            <a:ext cx="1072440" cy="576360"/>
            <a:chOff x="2554920" y="5614920"/>
            <a:chExt cx="1072440" cy="576360"/>
          </a:xfrm>
        </p:grpSpPr>
        <p:sp>
          <p:nvSpPr>
            <p:cNvPr id="724" name="Text Box 36"/>
            <p:cNvSpPr/>
            <p:nvPr/>
          </p:nvSpPr>
          <p:spPr>
            <a:xfrm>
              <a:off x="2554920" y="5800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37"/>
            <p:cNvSpPr/>
            <p:nvPr/>
          </p:nvSpPr>
          <p:spPr>
            <a:xfrm>
              <a:off x="3475080" y="5910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38"/>
            <p:cNvSpPr/>
            <p:nvPr/>
          </p:nvSpPr>
          <p:spPr>
            <a:xfrm>
              <a:off x="286704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39"/>
            <p:cNvSpPr/>
            <p:nvPr/>
          </p:nvSpPr>
          <p:spPr>
            <a:xfrm>
              <a:off x="3328920" y="5800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7" name="AutoShape 40"/>
          <p:cNvCxnSpPr>
            <a:stCxn id="709" idx="2"/>
            <a:endCxn id="725" idx="0"/>
          </p:cNvCxnSpPr>
          <p:nvPr/>
        </p:nvCxnSpPr>
        <p:spPr>
          <a:xfrm flipH="1">
            <a:off x="2942640" y="4967280"/>
            <a:ext cx="5400" cy="634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8" name="AutoShape 41"/>
          <p:cNvCxnSpPr>
            <a:stCxn id="729" idx="0"/>
            <a:endCxn id="704" idx="2"/>
          </p:cNvCxnSpPr>
          <p:nvPr/>
        </p:nvCxnSpPr>
        <p:spPr>
          <a:xfrm flipH="1" flipV="1">
            <a:off x="2910960" y="34758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0" name="Rectangle 42"/>
          <p:cNvSpPr/>
          <p:nvPr/>
        </p:nvSpPr>
        <p:spPr>
          <a:xfrm>
            <a:off x="2992680" y="49784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3"/>
          <p:cNvSpPr/>
          <p:nvPr/>
        </p:nvSpPr>
        <p:spPr>
          <a:xfrm>
            <a:off x="2381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44"/>
          <p:cNvSpPr/>
          <p:nvPr/>
        </p:nvSpPr>
        <p:spPr>
          <a:xfrm>
            <a:off x="284328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45"/>
          <p:cNvSpPr/>
          <p:nvPr/>
        </p:nvSpPr>
        <p:spPr>
          <a:xfrm>
            <a:off x="3362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46"/>
          <p:cNvSpPr/>
          <p:nvPr/>
        </p:nvSpPr>
        <p:spPr>
          <a:xfrm>
            <a:off x="174456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47"/>
          <p:cNvSpPr/>
          <p:nvPr/>
        </p:nvSpPr>
        <p:spPr>
          <a:xfrm>
            <a:off x="383688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3" name="AutoShape 48"/>
          <p:cNvCxnSpPr>
            <a:stCxn id="732" idx="2"/>
            <a:endCxn id="731" idx="0"/>
          </p:cNvCxnSpPr>
          <p:nvPr/>
        </p:nvCxnSpPr>
        <p:spPr>
          <a:xfrm rot="5400000">
            <a:off x="3245400" y="36414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34" name="Rectangle 49"/>
          <p:cNvSpPr/>
          <p:nvPr/>
        </p:nvSpPr>
        <p:spPr>
          <a:xfrm>
            <a:off x="2886120" y="36036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50"/>
          <p:cNvSpPr/>
          <p:nvPr/>
        </p:nvSpPr>
        <p:spPr>
          <a:xfrm>
            <a:off x="3941640" y="35352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sted 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7" name="Object 3"/>
          <p:cNvGraphicFramePr/>
          <p:nvPr/>
        </p:nvGraphicFramePr>
        <p:xfrm>
          <a:off x="317520" y="1246320"/>
          <a:ext cx="7381800" cy="48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1246320"/>
                    <a:ext cx="738180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ing coordinates...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40" name="Object 3"/>
          <p:cNvGraphicFramePr/>
          <p:nvPr/>
        </p:nvGraphicFramePr>
        <p:xfrm>
          <a:off x="193680" y="1263600"/>
          <a:ext cx="873432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" y="1263600"/>
                    <a:ext cx="873432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2" name="Group 9"/>
          <p:cNvGrpSpPr/>
          <p:nvPr/>
        </p:nvGrpSpPr>
        <p:grpSpPr>
          <a:xfrm>
            <a:off x="155160" y="4452840"/>
            <a:ext cx="8536320" cy="1720800"/>
            <a:chOff x="155160" y="4452840"/>
            <a:chExt cx="8536320" cy="1720800"/>
          </a:xfrm>
        </p:grpSpPr>
        <p:graphicFrame>
          <p:nvGraphicFramePr>
            <p:cNvPr id="743" name="Object 5"/>
            <p:cNvGraphicFramePr/>
            <p:nvPr/>
          </p:nvGraphicFramePr>
          <p:xfrm>
            <a:off x="2670120" y="4452840"/>
            <a:ext cx="6021360" cy="1720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70120" y="4452840"/>
                      <a:ext cx="6021360" cy="17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5" name="Text Box 6"/>
            <p:cNvSpPr/>
            <p:nvPr/>
          </p:nvSpPr>
          <p:spPr>
            <a:xfrm>
              <a:off x="155160" y="4826160"/>
              <a:ext cx="221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chi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8"/>
          <p:cNvGrpSpPr/>
          <p:nvPr/>
        </p:nvGrpSpPr>
        <p:grpSpPr>
          <a:xfrm>
            <a:off x="256680" y="2882880"/>
            <a:ext cx="8376120" cy="1552680"/>
            <a:chOff x="256680" y="2882880"/>
            <a:chExt cx="8376120" cy="1552680"/>
          </a:xfrm>
        </p:grpSpPr>
        <p:graphicFrame>
          <p:nvGraphicFramePr>
            <p:cNvPr id="747" name="Object 4"/>
            <p:cNvGraphicFramePr/>
            <p:nvPr/>
          </p:nvGraphicFramePr>
          <p:xfrm>
            <a:off x="2682720" y="2882880"/>
            <a:ext cx="5950080" cy="1552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8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82720" y="2882880"/>
                      <a:ext cx="595008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9" name="Text Box 7"/>
            <p:cNvSpPr/>
            <p:nvPr/>
          </p:nvSpPr>
          <p:spPr>
            <a:xfrm>
              <a:off x="256680" y="3181320"/>
              <a:ext cx="1977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chil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x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51" name="Object 3"/>
          <p:cNvGraphicFramePr/>
          <p:nvPr/>
        </p:nvGraphicFramePr>
        <p:xfrm>
          <a:off x="2035080" y="1133640"/>
          <a:ext cx="5910480" cy="34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5080" y="1133640"/>
                    <a:ext cx="591048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4"/>
          <p:cNvGraphicFramePr/>
          <p:nvPr/>
        </p:nvGraphicFramePr>
        <p:xfrm>
          <a:off x="611280" y="4549680"/>
          <a:ext cx="7338960" cy="16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549680"/>
                    <a:ext cx="733896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Rectangle 5"/>
          <p:cNvSpPr/>
          <p:nvPr/>
        </p:nvSpPr>
        <p:spPr>
          <a:xfrm>
            <a:off x="606600" y="1139760"/>
            <a:ext cx="1442880" cy="340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y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779400" y="1082520"/>
            <a:ext cx="144324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8" name="Object 4"/>
          <p:cNvGraphicFramePr/>
          <p:nvPr/>
        </p:nvGraphicFramePr>
        <p:xfrm>
          <a:off x="2208240" y="1082520"/>
          <a:ext cx="4259160" cy="35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8240" y="1082520"/>
                    <a:ext cx="4259160" cy="35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Object 5"/>
          <p:cNvGraphicFramePr/>
          <p:nvPr/>
        </p:nvGraphicFramePr>
        <p:xfrm>
          <a:off x="782640" y="4664160"/>
          <a:ext cx="7149960" cy="158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2640" y="4664160"/>
                    <a:ext cx="714996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Rectangle 6"/>
          <p:cNvSpPr/>
          <p:nvPr/>
        </p:nvSpPr>
        <p:spPr>
          <a:xfrm>
            <a:off x="6464160" y="1082520"/>
            <a:ext cx="147168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4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9"/>
          <p:cNvCxnSpPr>
            <a:stCxn id="140" idx="0"/>
            <a:endCxn id="14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4" name="AutoShape 10"/>
          <p:cNvCxnSpPr>
            <a:stCxn id="139" idx="0"/>
            <a:endCxn id="14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z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504720" y="1082520"/>
            <a:ext cx="7431120" cy="512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5" name="Object 4"/>
          <p:cNvGraphicFramePr/>
          <p:nvPr/>
        </p:nvGraphicFramePr>
        <p:xfrm>
          <a:off x="1940040" y="1146240"/>
          <a:ext cx="5443560" cy="36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0040" y="1146240"/>
                    <a:ext cx="544356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Object 5"/>
          <p:cNvGraphicFramePr/>
          <p:nvPr/>
        </p:nvGraphicFramePr>
        <p:xfrm>
          <a:off x="563400" y="4533840"/>
          <a:ext cx="7344000" cy="16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400" y="4533840"/>
                    <a:ext cx="734400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187200"/>
            <a:ext cx="853416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the units for coor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Rectangle 3"/>
          <p:cNvSpPr/>
          <p:nvPr/>
        </p:nvSpPr>
        <p:spPr>
          <a:xfrm>
            <a:off x="3062160" y="2384280"/>
            <a:ext cx="28180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10"/>
          <p:cNvSpPr/>
          <p:nvPr/>
        </p:nvSpPr>
        <p:spPr>
          <a:xfrm>
            <a:off x="659880" y="113832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4"/>
          <p:cNvSpPr/>
          <p:nvPr/>
        </p:nvSpPr>
        <p:spPr>
          <a:xfrm>
            <a:off x="346680" y="2381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15"/>
          <p:cNvSpPr/>
          <p:nvPr/>
        </p:nvSpPr>
        <p:spPr>
          <a:xfrm>
            <a:off x="1477800" y="2219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16"/>
          <p:cNvSpPr/>
          <p:nvPr/>
        </p:nvSpPr>
        <p:spPr>
          <a:xfrm flipH="1">
            <a:off x="2934000" y="100656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69"/>
          <p:cNvGrpSpPr/>
          <p:nvPr/>
        </p:nvGrpSpPr>
        <p:grpSpPr>
          <a:xfrm>
            <a:off x="5208480" y="1139760"/>
            <a:ext cx="2956680" cy="397440"/>
            <a:chOff x="5208480" y="1139760"/>
            <a:chExt cx="2956680" cy="397440"/>
          </a:xfrm>
        </p:grpSpPr>
        <p:sp>
          <p:nvSpPr>
            <p:cNvPr id="776" name="Rectangle 18"/>
            <p:cNvSpPr/>
            <p:nvPr/>
          </p:nvSpPr>
          <p:spPr>
            <a:xfrm>
              <a:off x="5391360" y="11397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Oval 25"/>
            <p:cNvSpPr/>
            <p:nvPr/>
          </p:nvSpPr>
          <p:spPr>
            <a:xfrm>
              <a:off x="5208480" y="1276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Rectangle 26"/>
          <p:cNvSpPr/>
          <p:nvPr/>
        </p:nvSpPr>
        <p:spPr>
          <a:xfrm>
            <a:off x="880920" y="1700280"/>
            <a:ext cx="150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30"/>
          <p:cNvSpPr/>
          <p:nvPr/>
        </p:nvSpPr>
        <p:spPr>
          <a:xfrm>
            <a:off x="2004840" y="1413000"/>
            <a:ext cx="405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AutoShape 31"/>
          <p:cNvCxnSpPr>
            <a:stCxn id="771" idx="3"/>
            <a:endCxn id="777" idx="2"/>
          </p:cNvCxnSpPr>
          <p:nvPr/>
        </p:nvCxnSpPr>
        <p:spPr>
          <a:xfrm>
            <a:off x="2495160" y="1351080"/>
            <a:ext cx="269964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81" name="AutoShape 32"/>
          <p:cNvCxnSpPr>
            <a:stCxn id="771" idx="2"/>
            <a:endCxn id="773" idx="0"/>
          </p:cNvCxnSpPr>
          <p:nvPr/>
        </p:nvCxnSpPr>
        <p:spPr>
          <a:xfrm rot="5400000">
            <a:off x="1245240" y="1885680"/>
            <a:ext cx="627840" cy="11880"/>
          </a:xfrm>
          <a:prstGeom prst="bentConnector3">
            <a:avLst>
              <a:gd name="adj1" fmla="val 4985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82" name="Rectangle 39"/>
          <p:cNvSpPr/>
          <p:nvPr/>
        </p:nvSpPr>
        <p:spPr>
          <a:xfrm>
            <a:off x="1066680" y="495000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Group 41"/>
          <p:cNvGrpSpPr/>
          <p:nvPr/>
        </p:nvGrpSpPr>
        <p:grpSpPr>
          <a:xfrm>
            <a:off x="896400" y="4714920"/>
            <a:ext cx="732240" cy="616320"/>
            <a:chOff x="896400" y="4714920"/>
            <a:chExt cx="732240" cy="616320"/>
          </a:xfrm>
        </p:grpSpPr>
        <p:sp>
          <p:nvSpPr>
            <p:cNvPr id="784" name="Text Box 42"/>
            <p:cNvSpPr/>
            <p:nvPr/>
          </p:nvSpPr>
          <p:spPr>
            <a:xfrm>
              <a:off x="896400" y="493236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Oval 43"/>
            <p:cNvSpPr/>
            <p:nvPr/>
          </p:nvSpPr>
          <p:spPr>
            <a:xfrm>
              <a:off x="116856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AutoShape 44"/>
          <p:cNvCxnSpPr>
            <a:endCxn id="787" idx="2"/>
          </p:cNvCxnSpPr>
          <p:nvPr/>
        </p:nvCxnSpPr>
        <p:spPr>
          <a:xfrm flipH="1" flipV="1" rot="5400000">
            <a:off x="4929840" y="885960"/>
            <a:ext cx="616680" cy="1961280"/>
          </a:xfrm>
          <a:prstGeom prst="bentConnector3">
            <a:avLst>
              <a:gd name="adj1" fmla="val 4766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8" name="Rectangle 46"/>
          <p:cNvSpPr/>
          <p:nvPr/>
        </p:nvSpPr>
        <p:spPr>
          <a:xfrm>
            <a:off x="1585800" y="29019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9" name="AutoShape 47"/>
          <p:cNvCxnSpPr>
            <a:stCxn id="790" idx="2"/>
            <a:endCxn id="785" idx="0"/>
          </p:cNvCxnSpPr>
          <p:nvPr/>
        </p:nvCxnSpPr>
        <p:spPr>
          <a:xfrm rot="5400000">
            <a:off x="1193040" y="4338720"/>
            <a:ext cx="416880" cy="280080"/>
          </a:xfrm>
          <a:prstGeom prst="bentConnector3">
            <a:avLst>
              <a:gd name="adj1" fmla="val 51512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1" name="Group 48"/>
          <p:cNvGrpSpPr/>
          <p:nvPr/>
        </p:nvGrpSpPr>
        <p:grpSpPr>
          <a:xfrm>
            <a:off x="309960" y="5622840"/>
            <a:ext cx="1909080" cy="616320"/>
            <a:chOff x="309960" y="5622840"/>
            <a:chExt cx="1909080" cy="616320"/>
          </a:xfrm>
        </p:grpSpPr>
        <p:sp>
          <p:nvSpPr>
            <p:cNvPr id="792" name="Text Box 49"/>
            <p:cNvSpPr/>
            <p:nvPr/>
          </p:nvSpPr>
          <p:spPr>
            <a:xfrm>
              <a:off x="309960" y="58402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Oval 50"/>
            <p:cNvSpPr/>
            <p:nvPr/>
          </p:nvSpPr>
          <p:spPr>
            <a:xfrm>
              <a:off x="1170000" y="56228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4" name="AutoShape 51"/>
          <p:cNvCxnSpPr>
            <a:stCxn id="784" idx="2"/>
            <a:endCxn id="793" idx="0"/>
          </p:cNvCxnSpPr>
          <p:nvPr/>
        </p:nvCxnSpPr>
        <p:spPr>
          <a:xfrm>
            <a:off x="1263240" y="5371920"/>
            <a:ext cx="1080" cy="2228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5" name="Rectangle 52"/>
          <p:cNvSpPr/>
          <p:nvPr/>
        </p:nvSpPr>
        <p:spPr>
          <a:xfrm>
            <a:off x="2318760" y="565632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Group 67"/>
          <p:cNvGrpSpPr/>
          <p:nvPr/>
        </p:nvGrpSpPr>
        <p:grpSpPr>
          <a:xfrm>
            <a:off x="4417920" y="5843520"/>
            <a:ext cx="2023200" cy="368280"/>
            <a:chOff x="4417920" y="5843520"/>
            <a:chExt cx="2023200" cy="368280"/>
          </a:xfrm>
        </p:grpSpPr>
        <p:sp>
          <p:nvSpPr>
            <p:cNvPr id="797" name="Text Box 57"/>
            <p:cNvSpPr/>
            <p:nvPr/>
          </p:nvSpPr>
          <p:spPr>
            <a:xfrm>
              <a:off x="4626720" y="584352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Oval 58"/>
            <p:cNvSpPr/>
            <p:nvPr/>
          </p:nvSpPr>
          <p:spPr>
            <a:xfrm>
              <a:off x="4417920" y="59673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Group 68"/>
          <p:cNvGrpSpPr/>
          <p:nvPr/>
        </p:nvGrpSpPr>
        <p:grpSpPr>
          <a:xfrm>
            <a:off x="6838920" y="5843520"/>
            <a:ext cx="1123920" cy="390600"/>
            <a:chOff x="6838920" y="5843520"/>
            <a:chExt cx="1123920" cy="390600"/>
          </a:xfrm>
        </p:grpSpPr>
        <p:sp>
          <p:nvSpPr>
            <p:cNvPr id="800" name="Text Box 61"/>
            <p:cNvSpPr/>
            <p:nvPr/>
          </p:nvSpPr>
          <p:spPr>
            <a:xfrm>
              <a:off x="7044480" y="5843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Oval 62"/>
            <p:cNvSpPr/>
            <p:nvPr/>
          </p:nvSpPr>
          <p:spPr>
            <a:xfrm>
              <a:off x="6838920" y="5967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Rectangle 64"/>
            <p:cNvSpPr/>
            <p:nvPr/>
          </p:nvSpPr>
          <p:spPr>
            <a:xfrm>
              <a:off x="7818480" y="5843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AutoShape 65"/>
          <p:cNvCxnSpPr>
            <a:stCxn id="797" idx="3"/>
            <a:endCxn id="801" idx="2"/>
          </p:cNvCxnSpPr>
          <p:nvPr/>
        </p:nvCxnSpPr>
        <p:spPr>
          <a:xfrm>
            <a:off x="6473880" y="6041520"/>
            <a:ext cx="3513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04" name="AutoShape 66"/>
          <p:cNvCxnSpPr>
            <a:stCxn id="792" idx="3"/>
            <a:endCxn id="798" idx="2"/>
          </p:cNvCxnSpPr>
          <p:nvPr/>
        </p:nvCxnSpPr>
        <p:spPr>
          <a:xfrm flipV="1">
            <a:off x="2246040" y="6043320"/>
            <a:ext cx="2158200" cy="1008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05" name="Rectangle 75"/>
          <p:cNvSpPr/>
          <p:nvPr/>
        </p:nvSpPr>
        <p:spPr>
          <a:xfrm>
            <a:off x="6318360" y="158760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Group 76"/>
          <p:cNvGrpSpPr/>
          <p:nvPr/>
        </p:nvGrpSpPr>
        <p:grpSpPr>
          <a:xfrm>
            <a:off x="7110360" y="3576600"/>
            <a:ext cx="690480" cy="592560"/>
            <a:chOff x="7110360" y="3576600"/>
            <a:chExt cx="690480" cy="592560"/>
          </a:xfrm>
        </p:grpSpPr>
        <p:sp>
          <p:nvSpPr>
            <p:cNvPr id="807" name="Text Box 77"/>
            <p:cNvSpPr/>
            <p:nvPr/>
          </p:nvSpPr>
          <p:spPr>
            <a:xfrm>
              <a:off x="7110360" y="379872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Oval 78"/>
            <p:cNvSpPr/>
            <p:nvPr/>
          </p:nvSpPr>
          <p:spPr>
            <a:xfrm>
              <a:off x="7360920" y="35766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79"/>
            <p:cNvSpPr/>
            <p:nvPr/>
          </p:nvSpPr>
          <p:spPr>
            <a:xfrm flipV="1">
              <a:off x="7219800" y="378072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0" name="AutoShape 80"/>
          <p:cNvCxnSpPr>
            <a:stCxn id="811" idx="2"/>
            <a:endCxn id="808" idx="0"/>
          </p:cNvCxnSpPr>
          <p:nvPr/>
        </p:nvCxnSpPr>
        <p:spPr>
          <a:xfrm flipH="1">
            <a:off x="7454160" y="3130200"/>
            <a:ext cx="3960" cy="432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12" name="Text Box 85"/>
          <p:cNvSpPr/>
          <p:nvPr/>
        </p:nvSpPr>
        <p:spPr>
          <a:xfrm>
            <a:off x="3929040" y="374652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70"/>
          <p:cNvSpPr/>
          <p:nvPr/>
        </p:nvSpPr>
        <p:spPr>
          <a:xfrm>
            <a:off x="6286680" y="238608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Oval 86"/>
          <p:cNvSpPr/>
          <p:nvPr/>
        </p:nvSpPr>
        <p:spPr>
          <a:xfrm>
            <a:off x="738036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4" name="AutoShape 87"/>
          <p:cNvCxnSpPr>
            <a:stCxn id="807" idx="1"/>
            <a:endCxn id="815" idx="6"/>
          </p:cNvCxnSpPr>
          <p:nvPr/>
        </p:nvCxnSpPr>
        <p:spPr>
          <a:xfrm flipV="1" rot="10800000">
            <a:off x="5661000" y="3997080"/>
            <a:ext cx="143532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16" name="Text Box 89"/>
          <p:cNvSpPr/>
          <p:nvPr/>
        </p:nvSpPr>
        <p:spPr>
          <a:xfrm>
            <a:off x="6819840" y="320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06"/>
          <p:cNvSpPr/>
          <p:nvPr/>
        </p:nvSpPr>
        <p:spPr>
          <a:xfrm>
            <a:off x="7378560" y="1400040"/>
            <a:ext cx="187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8" name="AutoShape 107"/>
          <p:cNvCxnSpPr>
            <a:stCxn id="817" idx="2"/>
            <a:endCxn id="813" idx="0"/>
          </p:cNvCxnSpPr>
          <p:nvPr/>
        </p:nvCxnSpPr>
        <p:spPr>
          <a:xfrm flipH="1" rot="16200000">
            <a:off x="7179480" y="1837080"/>
            <a:ext cx="587880" cy="2160"/>
          </a:xfrm>
          <a:prstGeom prst="bentConnector3">
            <a:avLst>
              <a:gd name="adj1" fmla="val 523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9" name="AutoShape 109"/>
          <p:cNvCxnSpPr>
            <a:stCxn id="772" idx="2"/>
            <a:endCxn id="820" idx="0"/>
          </p:cNvCxnSpPr>
          <p:nvPr/>
        </p:nvCxnSpPr>
        <p:spPr>
          <a:xfrm rot="5400000">
            <a:off x="1334520" y="3043080"/>
            <a:ext cx="451440" cy="7200"/>
          </a:xfrm>
          <a:prstGeom prst="bentConnector3">
            <a:avLst>
              <a:gd name="adj1" fmla="val 5139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Rectangle 110"/>
          <p:cNvSpPr/>
          <p:nvPr/>
        </p:nvSpPr>
        <p:spPr>
          <a:xfrm>
            <a:off x="6124680" y="1414440"/>
            <a:ext cx="187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Oval 111"/>
          <p:cNvSpPr/>
          <p:nvPr/>
        </p:nvSpPr>
        <p:spPr>
          <a:xfrm>
            <a:off x="417672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Group 113"/>
          <p:cNvGrpSpPr/>
          <p:nvPr/>
        </p:nvGrpSpPr>
        <p:grpSpPr>
          <a:xfrm>
            <a:off x="324360" y="3300480"/>
            <a:ext cx="2432520" cy="927360"/>
            <a:chOff x="324360" y="3300480"/>
            <a:chExt cx="2432520" cy="927360"/>
          </a:xfrm>
        </p:grpSpPr>
        <p:sp>
          <p:nvSpPr>
            <p:cNvPr id="790" name="Rectangle 36"/>
            <p:cNvSpPr/>
            <p:nvPr/>
          </p:nvSpPr>
          <p:spPr>
            <a:xfrm>
              <a:off x="324360" y="352548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112"/>
            <p:cNvSpPr/>
            <p:nvPr/>
          </p:nvSpPr>
          <p:spPr>
            <a:xfrm>
              <a:off x="1463760" y="33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Rectangle 115"/>
          <p:cNvSpPr/>
          <p:nvPr/>
        </p:nvSpPr>
        <p:spPr>
          <a:xfrm>
            <a:off x="6692760" y="514368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Oval 116"/>
          <p:cNvSpPr/>
          <p:nvPr/>
        </p:nvSpPr>
        <p:spPr>
          <a:xfrm>
            <a:off x="3933720" y="467028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117"/>
          <p:cNvSpPr/>
          <p:nvPr/>
        </p:nvSpPr>
        <p:spPr>
          <a:xfrm>
            <a:off x="3292920" y="48848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AutoShape 118"/>
          <p:cNvCxnSpPr>
            <a:stCxn id="812" idx="2"/>
            <a:endCxn id="824" idx="0"/>
          </p:cNvCxnSpPr>
          <p:nvPr/>
        </p:nvCxnSpPr>
        <p:spPr>
          <a:xfrm rot="5400000">
            <a:off x="4127400" y="4085280"/>
            <a:ext cx="456480" cy="658080"/>
          </a:xfrm>
          <a:prstGeom prst="bentConnector3">
            <a:avLst>
              <a:gd name="adj1" fmla="val 51539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27" name="Group 135"/>
          <p:cNvGrpSpPr/>
          <p:nvPr/>
        </p:nvGrpSpPr>
        <p:grpSpPr>
          <a:xfrm>
            <a:off x="4876200" y="4672080"/>
            <a:ext cx="916920" cy="611280"/>
            <a:chOff x="4876200" y="4672080"/>
            <a:chExt cx="916920" cy="611280"/>
          </a:xfrm>
        </p:grpSpPr>
        <p:sp>
          <p:nvSpPr>
            <p:cNvPr id="828" name="Text Box 119"/>
            <p:cNvSpPr/>
            <p:nvPr/>
          </p:nvSpPr>
          <p:spPr>
            <a:xfrm>
              <a:off x="4876200" y="488448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120"/>
            <p:cNvSpPr/>
            <p:nvPr/>
          </p:nvSpPr>
          <p:spPr>
            <a:xfrm>
              <a:off x="5200560" y="4672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Rectangle 121"/>
          <p:cNvSpPr/>
          <p:nvPr/>
        </p:nvSpPr>
        <p:spPr>
          <a:xfrm>
            <a:off x="6090120" y="4721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Group 136"/>
          <p:cNvGrpSpPr/>
          <p:nvPr/>
        </p:nvGrpSpPr>
        <p:grpSpPr>
          <a:xfrm>
            <a:off x="7156440" y="4868640"/>
            <a:ext cx="1757520" cy="384480"/>
            <a:chOff x="7156440" y="4868640"/>
            <a:chExt cx="1757520" cy="384480"/>
          </a:xfrm>
        </p:grpSpPr>
        <p:sp>
          <p:nvSpPr>
            <p:cNvPr id="832" name="Oval 123"/>
            <p:cNvSpPr/>
            <p:nvPr/>
          </p:nvSpPr>
          <p:spPr>
            <a:xfrm>
              <a:off x="7156440" y="5007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Text Box 124"/>
            <p:cNvSpPr/>
            <p:nvPr/>
          </p:nvSpPr>
          <p:spPr>
            <a:xfrm>
              <a:off x="7313760" y="48848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125"/>
            <p:cNvSpPr/>
            <p:nvPr/>
          </p:nvSpPr>
          <p:spPr>
            <a:xfrm flipV="1">
              <a:off x="8828280" y="48686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Group 137"/>
          <p:cNvGrpSpPr/>
          <p:nvPr/>
        </p:nvGrpSpPr>
        <p:grpSpPr>
          <a:xfrm>
            <a:off x="7135920" y="5338440"/>
            <a:ext cx="1344600" cy="374760"/>
            <a:chOff x="7135920" y="5338440"/>
            <a:chExt cx="1344600" cy="374760"/>
          </a:xfrm>
        </p:grpSpPr>
        <p:sp>
          <p:nvSpPr>
            <p:cNvPr id="836" name="Oval 127"/>
            <p:cNvSpPr/>
            <p:nvPr/>
          </p:nvSpPr>
          <p:spPr>
            <a:xfrm>
              <a:off x="7135920" y="549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128"/>
            <p:cNvSpPr/>
            <p:nvPr/>
          </p:nvSpPr>
          <p:spPr>
            <a:xfrm>
              <a:off x="7297560" y="5342040"/>
              <a:ext cx="1182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29"/>
            <p:cNvSpPr/>
            <p:nvPr/>
          </p:nvSpPr>
          <p:spPr>
            <a:xfrm flipV="1">
              <a:off x="8362800" y="53384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9" name="AutoShape 130"/>
          <p:cNvCxnSpPr>
            <a:stCxn id="828" idx="3"/>
            <a:endCxn id="832" idx="2"/>
          </p:cNvCxnSpPr>
          <p:nvPr/>
        </p:nvCxnSpPr>
        <p:spPr>
          <a:xfrm flipV="1">
            <a:off x="5823000" y="5082840"/>
            <a:ext cx="1319760" cy="1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40" name="AutoShape 131"/>
          <p:cNvCxnSpPr>
            <a:stCxn id="828" idx="2"/>
            <a:endCxn id="836" idx="2"/>
          </p:cNvCxnSpPr>
          <p:nvPr/>
        </p:nvCxnSpPr>
        <p:spPr>
          <a:xfrm flipH="1" rot="16200000">
            <a:off x="6105960" y="4552560"/>
            <a:ext cx="243720" cy="1786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1" name="Rectangle 132"/>
          <p:cNvSpPr/>
          <p:nvPr/>
        </p:nvSpPr>
        <p:spPr>
          <a:xfrm>
            <a:off x="6075720" y="518148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2" name="AutoShape 133"/>
          <p:cNvCxnSpPr>
            <a:stCxn id="812" idx="2"/>
            <a:endCxn id="829" idx="0"/>
          </p:cNvCxnSpPr>
          <p:nvPr/>
        </p:nvCxnSpPr>
        <p:spPr>
          <a:xfrm flipH="1" rot="16200000">
            <a:off x="4759920" y="4109760"/>
            <a:ext cx="457920" cy="61020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15" name="Oval 134"/>
          <p:cNvSpPr/>
          <p:nvPr/>
        </p:nvSpPr>
        <p:spPr>
          <a:xfrm>
            <a:off x="5494320" y="39225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282600" y="1157400"/>
            <a:ext cx="861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(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coordinate system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45" name="AutoShape 3"/>
          <p:cNvCxnSpPr>
            <a:stCxn id="846" idx="2"/>
            <a:endCxn id="847" idx="0"/>
          </p:cNvCxnSpPr>
          <p:nvPr/>
        </p:nvCxnSpPr>
        <p:spPr>
          <a:xfrm>
            <a:off x="5060520" y="351900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8" name="Rectangle 4"/>
          <p:cNvSpPr/>
          <p:nvPr/>
        </p:nvSpPr>
        <p:spPr>
          <a:xfrm>
            <a:off x="1414800" y="231948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5"/>
          <p:cNvSpPr/>
          <p:nvPr/>
        </p:nvSpPr>
        <p:spPr>
          <a:xfrm>
            <a:off x="1573200" y="2882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6"/>
          <p:cNvSpPr/>
          <p:nvPr/>
        </p:nvSpPr>
        <p:spPr>
          <a:xfrm>
            <a:off x="462600" y="2286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3"/>
          <p:cNvSpPr/>
          <p:nvPr/>
        </p:nvSpPr>
        <p:spPr>
          <a:xfrm>
            <a:off x="461160" y="1393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AutoShape 15"/>
          <p:cNvCxnSpPr>
            <a:stCxn id="853" idx="0"/>
            <a:endCxn id="850" idx="2"/>
          </p:cNvCxnSpPr>
          <p:nvPr/>
        </p:nvCxnSpPr>
        <p:spPr>
          <a:xfrm flipV="1">
            <a:off x="1334880" y="972360"/>
            <a:ext cx="13320" cy="1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Text Box 16"/>
          <p:cNvSpPr/>
          <p:nvPr/>
        </p:nvSpPr>
        <p:spPr>
          <a:xfrm>
            <a:off x="4383000" y="30798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8"/>
          <p:cNvSpPr/>
          <p:nvPr/>
        </p:nvSpPr>
        <p:spPr>
          <a:xfrm>
            <a:off x="324720" y="3051000"/>
            <a:ext cx="2660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xis_2_placement_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Oval 19"/>
          <p:cNvSpPr/>
          <p:nvPr/>
        </p:nvSpPr>
        <p:spPr>
          <a:xfrm>
            <a:off x="30160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6" name="AutoShape 20"/>
          <p:cNvCxnSpPr>
            <a:stCxn id="846" idx="1"/>
            <a:endCxn id="855" idx="6"/>
          </p:cNvCxnSpPr>
          <p:nvPr/>
        </p:nvCxnSpPr>
        <p:spPr>
          <a:xfrm rot="10800000">
            <a:off x="3232080" y="3288600"/>
            <a:ext cx="112284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21"/>
          <p:cNvCxnSpPr>
            <a:stCxn id="851" idx="2"/>
            <a:endCxn id="849" idx="0"/>
          </p:cNvCxnSpPr>
          <p:nvPr/>
        </p:nvCxnSpPr>
        <p:spPr>
          <a:xfrm flipH="1" rot="16200000">
            <a:off x="1131840" y="2351520"/>
            <a:ext cx="730800" cy="304200"/>
          </a:xfrm>
          <a:prstGeom prst="bentConnector3">
            <a:avLst>
              <a:gd name="adj1" fmla="val 7368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58" name="Rectangle 22"/>
          <p:cNvSpPr/>
          <p:nvPr/>
        </p:nvSpPr>
        <p:spPr>
          <a:xfrm>
            <a:off x="5087160" y="51372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23"/>
          <p:cNvSpPr/>
          <p:nvPr/>
        </p:nvSpPr>
        <p:spPr>
          <a:xfrm>
            <a:off x="1119600" y="454176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24"/>
          <p:cNvSpPr/>
          <p:nvPr/>
        </p:nvSpPr>
        <p:spPr>
          <a:xfrm>
            <a:off x="5130360" y="37497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Group 25"/>
          <p:cNvGrpSpPr/>
          <p:nvPr/>
        </p:nvGrpSpPr>
        <p:grpSpPr>
          <a:xfrm>
            <a:off x="4132440" y="4335480"/>
            <a:ext cx="1909080" cy="559440"/>
            <a:chOff x="4132440" y="4335480"/>
            <a:chExt cx="1909080" cy="559440"/>
          </a:xfrm>
        </p:grpSpPr>
        <p:sp>
          <p:nvSpPr>
            <p:cNvPr id="862" name="Text Box 26"/>
            <p:cNvSpPr/>
            <p:nvPr/>
          </p:nvSpPr>
          <p:spPr>
            <a:xfrm>
              <a:off x="4132440" y="44960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27"/>
            <p:cNvSpPr/>
            <p:nvPr/>
          </p:nvSpPr>
          <p:spPr>
            <a:xfrm>
              <a:off x="4995720" y="433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28"/>
          <p:cNvGrpSpPr/>
          <p:nvPr/>
        </p:nvGrpSpPr>
        <p:grpSpPr>
          <a:xfrm>
            <a:off x="4221720" y="5614920"/>
            <a:ext cx="1814400" cy="554040"/>
            <a:chOff x="4221720" y="5614920"/>
            <a:chExt cx="1814400" cy="554040"/>
          </a:xfrm>
        </p:grpSpPr>
        <p:sp>
          <p:nvSpPr>
            <p:cNvPr id="864" name="Text Box 29"/>
            <p:cNvSpPr/>
            <p:nvPr/>
          </p:nvSpPr>
          <p:spPr>
            <a:xfrm>
              <a:off x="4221720" y="58006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30"/>
            <p:cNvSpPr/>
            <p:nvPr/>
          </p:nvSpPr>
          <p:spPr>
            <a:xfrm>
              <a:off x="501480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6" name="AutoShape 31"/>
          <p:cNvCxnSpPr>
            <a:stCxn id="867" idx="6"/>
            <a:endCxn id="864" idx="1"/>
          </p:cNvCxnSpPr>
          <p:nvPr/>
        </p:nvCxnSpPr>
        <p:spPr>
          <a:xfrm flipV="1">
            <a:off x="2385720" y="5998320"/>
            <a:ext cx="18039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8" name="AutoShape 32"/>
          <p:cNvCxnSpPr>
            <a:stCxn id="862" idx="2"/>
            <a:endCxn id="865" idx="0"/>
          </p:cNvCxnSpPr>
          <p:nvPr/>
        </p:nvCxnSpPr>
        <p:spPr>
          <a:xfrm>
            <a:off x="5087520" y="49356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9" name="AutoShape 33"/>
          <p:cNvCxnSpPr>
            <a:stCxn id="870" idx="2"/>
            <a:endCxn id="871" idx="0"/>
          </p:cNvCxnSpPr>
          <p:nvPr/>
        </p:nvCxnSpPr>
        <p:spPr>
          <a:xfrm flipH="1" rot="16200000">
            <a:off x="453960" y="35920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Rectangle 34"/>
          <p:cNvSpPr/>
          <p:nvPr/>
        </p:nvSpPr>
        <p:spPr>
          <a:xfrm>
            <a:off x="161640" y="381492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Group 35"/>
          <p:cNvGrpSpPr/>
          <p:nvPr/>
        </p:nvGrpSpPr>
        <p:grpSpPr>
          <a:xfrm>
            <a:off x="1299240" y="5629320"/>
            <a:ext cx="1072440" cy="576360"/>
            <a:chOff x="1299240" y="5629320"/>
            <a:chExt cx="1072440" cy="576360"/>
          </a:xfrm>
        </p:grpSpPr>
        <p:sp>
          <p:nvSpPr>
            <p:cNvPr id="874" name="Text Box 36"/>
            <p:cNvSpPr/>
            <p:nvPr/>
          </p:nvSpPr>
          <p:spPr>
            <a:xfrm>
              <a:off x="1299240" y="5815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37"/>
            <p:cNvSpPr/>
            <p:nvPr/>
          </p:nvSpPr>
          <p:spPr>
            <a:xfrm>
              <a:off x="2219400" y="5924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38"/>
            <p:cNvSpPr/>
            <p:nvPr/>
          </p:nvSpPr>
          <p:spPr>
            <a:xfrm>
              <a:off x="1611360" y="5629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Rectangle 39"/>
            <p:cNvSpPr/>
            <p:nvPr/>
          </p:nvSpPr>
          <p:spPr>
            <a:xfrm>
              <a:off x="2073240" y="5815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7" name="AutoShape 40"/>
          <p:cNvCxnSpPr>
            <a:stCxn id="859" idx="2"/>
            <a:endCxn id="875" idx="0"/>
          </p:cNvCxnSpPr>
          <p:nvPr/>
        </p:nvCxnSpPr>
        <p:spPr>
          <a:xfrm flipH="1">
            <a:off x="1686960" y="4981320"/>
            <a:ext cx="5400" cy="63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AutoShape 41"/>
          <p:cNvCxnSpPr>
            <a:stCxn id="879" idx="0"/>
            <a:endCxn id="854" idx="2"/>
          </p:cNvCxnSpPr>
          <p:nvPr/>
        </p:nvCxnSpPr>
        <p:spPr>
          <a:xfrm flipH="1" flipV="1">
            <a:off x="1655280" y="34902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0" name="Rectangle 42"/>
          <p:cNvSpPr/>
          <p:nvPr/>
        </p:nvSpPr>
        <p:spPr>
          <a:xfrm>
            <a:off x="1736640" y="49928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43"/>
          <p:cNvSpPr/>
          <p:nvPr/>
        </p:nvSpPr>
        <p:spPr>
          <a:xfrm>
            <a:off x="1125360" y="435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Oval 44"/>
          <p:cNvSpPr/>
          <p:nvPr/>
        </p:nvSpPr>
        <p:spPr>
          <a:xfrm>
            <a:off x="158760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45"/>
          <p:cNvSpPr/>
          <p:nvPr/>
        </p:nvSpPr>
        <p:spPr>
          <a:xfrm>
            <a:off x="210672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46"/>
          <p:cNvSpPr/>
          <p:nvPr/>
        </p:nvSpPr>
        <p:spPr>
          <a:xfrm>
            <a:off x="48888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47"/>
          <p:cNvSpPr/>
          <p:nvPr/>
        </p:nvSpPr>
        <p:spPr>
          <a:xfrm>
            <a:off x="258120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3" name="AutoShape 48"/>
          <p:cNvCxnSpPr>
            <a:stCxn id="882" idx="2"/>
            <a:endCxn id="881" idx="0"/>
          </p:cNvCxnSpPr>
          <p:nvPr/>
        </p:nvCxnSpPr>
        <p:spPr>
          <a:xfrm rot="5400000">
            <a:off x="1989720" y="36558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84" name="Rectangle 49"/>
          <p:cNvSpPr/>
          <p:nvPr/>
        </p:nvSpPr>
        <p:spPr>
          <a:xfrm>
            <a:off x="1630440" y="36180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50"/>
          <p:cNvSpPr/>
          <p:nvPr/>
        </p:nvSpPr>
        <p:spPr>
          <a:xfrm>
            <a:off x="2685960" y="35496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Oval 52"/>
          <p:cNvSpPr/>
          <p:nvPr/>
        </p:nvSpPr>
        <p:spPr>
          <a:xfrm>
            <a:off x="1241280" y="11905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53"/>
          <p:cNvSpPr/>
          <p:nvPr/>
        </p:nvSpPr>
        <p:spPr>
          <a:xfrm>
            <a:off x="2939760" y="27144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54"/>
          <p:cNvSpPr/>
          <p:nvPr/>
        </p:nvSpPr>
        <p:spPr>
          <a:xfrm>
            <a:off x="6479280" y="3016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55"/>
          <p:cNvSpPr/>
          <p:nvPr/>
        </p:nvSpPr>
        <p:spPr>
          <a:xfrm>
            <a:off x="6296040" y="414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56"/>
          <p:cNvSpPr/>
          <p:nvPr/>
        </p:nvSpPr>
        <p:spPr>
          <a:xfrm>
            <a:off x="4819680" y="127080"/>
            <a:ext cx="150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57"/>
          <p:cNvSpPr/>
          <p:nvPr/>
        </p:nvSpPr>
        <p:spPr>
          <a:xfrm>
            <a:off x="7964640" y="48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AutoShape 58"/>
          <p:cNvCxnSpPr>
            <a:stCxn id="886" idx="3"/>
            <a:endCxn id="888" idx="2"/>
          </p:cNvCxnSpPr>
          <p:nvPr/>
        </p:nvCxnSpPr>
        <p:spPr>
          <a:xfrm>
            <a:off x="4774680" y="484200"/>
            <a:ext cx="1507320" cy="7200"/>
          </a:xfrm>
          <a:prstGeom prst="bentConnector3">
            <a:avLst>
              <a:gd name="adj1" fmla="val 4992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2" name="Rectangle 59"/>
          <p:cNvSpPr/>
          <p:nvPr/>
        </p:nvSpPr>
        <p:spPr>
          <a:xfrm>
            <a:off x="7345080" y="2828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AutoShape 60"/>
          <p:cNvCxnSpPr>
            <a:stCxn id="894" idx="2"/>
            <a:endCxn id="895" idx="6"/>
          </p:cNvCxnSpPr>
          <p:nvPr/>
        </p:nvCxnSpPr>
        <p:spPr>
          <a:xfrm rot="5400000">
            <a:off x="6318360" y="1920240"/>
            <a:ext cx="1040400" cy="1699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96" name="AutoShape 61"/>
          <p:cNvCxnSpPr>
            <a:stCxn id="887" idx="2"/>
            <a:endCxn id="897" idx="0"/>
          </p:cNvCxnSpPr>
          <p:nvPr/>
        </p:nvCxnSpPr>
        <p:spPr>
          <a:xfrm flipH="1" rot="16200000">
            <a:off x="7445160" y="991800"/>
            <a:ext cx="510480" cy="864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98" name="Group 62"/>
          <p:cNvGrpSpPr/>
          <p:nvPr/>
        </p:nvGrpSpPr>
        <p:grpSpPr>
          <a:xfrm>
            <a:off x="6471360" y="1279440"/>
            <a:ext cx="2432520" cy="927720"/>
            <a:chOff x="6471360" y="1279440"/>
            <a:chExt cx="2432520" cy="927720"/>
          </a:xfrm>
        </p:grpSpPr>
        <p:sp>
          <p:nvSpPr>
            <p:cNvPr id="894" name="Rectangle 63"/>
            <p:cNvSpPr/>
            <p:nvPr/>
          </p:nvSpPr>
          <p:spPr>
            <a:xfrm>
              <a:off x="6471360" y="150480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64"/>
            <p:cNvSpPr/>
            <p:nvPr/>
          </p:nvSpPr>
          <p:spPr>
            <a:xfrm>
              <a:off x="7610760" y="127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Oval 65"/>
          <p:cNvSpPr/>
          <p:nvPr/>
        </p:nvSpPr>
        <p:spPr>
          <a:xfrm>
            <a:off x="57736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Group 68"/>
          <p:cNvGrpSpPr/>
          <p:nvPr/>
        </p:nvGrpSpPr>
        <p:grpSpPr>
          <a:xfrm>
            <a:off x="7332120" y="4267080"/>
            <a:ext cx="732240" cy="616320"/>
            <a:chOff x="7332120" y="4267080"/>
            <a:chExt cx="732240" cy="616320"/>
          </a:xfrm>
        </p:grpSpPr>
        <p:sp>
          <p:nvSpPr>
            <p:cNvPr id="900" name="Text Box 69"/>
            <p:cNvSpPr/>
            <p:nvPr/>
          </p:nvSpPr>
          <p:spPr>
            <a:xfrm>
              <a:off x="7332120" y="44845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Oval 70"/>
            <p:cNvSpPr/>
            <p:nvPr/>
          </p:nvSpPr>
          <p:spPr>
            <a:xfrm>
              <a:off x="7604280" y="42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2" name="AutoShape 71"/>
          <p:cNvCxnSpPr>
            <a:stCxn id="900" idx="1"/>
            <a:endCxn id="903" idx="6"/>
          </p:cNvCxnSpPr>
          <p:nvPr/>
        </p:nvCxnSpPr>
        <p:spPr>
          <a:xfrm flipH="1">
            <a:off x="6306480" y="4697280"/>
            <a:ext cx="996120" cy="72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3" name="Oval 72"/>
          <p:cNvSpPr/>
          <p:nvPr/>
        </p:nvSpPr>
        <p:spPr>
          <a:xfrm>
            <a:off x="6091200" y="4610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4" name="AutoShape 73"/>
          <p:cNvCxnSpPr>
            <a:stCxn id="894" idx="2"/>
            <a:endCxn id="901" idx="0"/>
          </p:cNvCxnSpPr>
          <p:nvPr/>
        </p:nvCxnSpPr>
        <p:spPr>
          <a:xfrm>
            <a:off x="7687800" y="2249280"/>
            <a:ext cx="10440" cy="19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coord syste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282600" y="1157400"/>
            <a:ext cx="8616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2 = (GEOMETRIC_REPRESENTATION_CONTEXT(3) GLOBAL_UNIT_ASSIGNED_CONTEXT((#1021)) REPRESENTATION_CONTEXT('context for coord system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021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COORD_SYSTEM_CARTESIAN (‘my coord system’, $, ‘right handed’, #20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AXIS2_PLACEMENT_3D (‘test placement’, #1, #301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1 = DIRECTION (‘z vector’, (0.0, 0.0, 1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2 = DIRECTION (‘x vector’, (1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14200"/>
            <a:ext cx="7477200" cy="4891320"/>
          </a:xfrm>
          <a:prstGeom prst="rect">
            <a:avLst/>
          </a:prstGeom>
          <a:ln w="0">
            <a:noFill/>
          </a:ln>
        </p:spPr>
      </p:pic>
      <p:sp>
        <p:nvSpPr>
          <p:cNvPr id="908" name="Text Box 3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3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14"/>
          <p:cNvCxnSpPr>
            <a:stCxn id="145" idx="2"/>
            <a:endCxn id="148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0" name="Oval 15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AutoShape 16"/>
          <p:cNvCxnSpPr>
            <a:stCxn id="146" idx="0"/>
            <a:endCxn id="150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2" name="Rectangle 17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AutoShape 18"/>
          <p:cNvCxnSpPr>
            <a:stCxn id="147" idx="3"/>
            <a:endCxn id="154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Rectangle 21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55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54" name="Oval 22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23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AutoShape 30"/>
          <p:cNvCxnSpPr>
            <a:stCxn id="145" idx="3"/>
            <a:endCxn id="159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59" name="Oval 31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AutoShape 35"/>
          <p:cNvCxnSpPr>
            <a:stCxn id="163" idx="2"/>
            <a:endCxn id="161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63" name="Rectangle 36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8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39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40"/>
          <p:cNvCxnSpPr>
            <a:stCxn id="160" idx="2"/>
            <a:endCxn id="166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8" name="Text Box 41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2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43"/>
          <p:cNvCxnSpPr>
            <a:stCxn id="160" idx="2"/>
            <a:endCxn id="169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5"/>
          <p:cNvCxnSpPr>
            <a:stCxn id="160" idx="2"/>
            <a:endCxn id="172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3" name="Text Box 46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8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51"/>
          <p:cNvCxnSpPr>
            <a:stCxn id="175" idx="3"/>
            <a:endCxn id="177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Rectangle 52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0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53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56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57"/>
          <p:cNvCxnSpPr>
            <a:stCxn id="175" idx="0"/>
            <a:endCxn id="180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Rectangle 58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ANALYSIS_MODEL (‘my model’, 1, $, #100 = ANALYSIS_MODEL ('example analysis model', 1, $, .PLANE_FRAME., #10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7425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6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7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AutoShape 8"/>
          <p:cNvCxnSpPr>
            <a:stCxn id="187" idx="0"/>
            <a:endCxn id="189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1" name="AutoShape 9"/>
          <p:cNvCxnSpPr>
            <a:stCxn id="192" idx="0"/>
            <a:endCxn id="193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2" name="Text Box 10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11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13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14"/>
          <p:cNvCxnSpPr>
            <a:stCxn id="188" idx="4"/>
            <a:endCxn id="186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6" name="AutoShape 15"/>
          <p:cNvCxnSpPr>
            <a:stCxn id="192" idx="2"/>
            <a:endCxn id="194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7" name="Rectangle 16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21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AutoShape 23"/>
          <p:cNvCxnSpPr>
            <a:stCxn id="192" idx="3"/>
            <a:endCxn id="202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5" name="Rectangle 24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2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27"/>
          <p:cNvCxnSpPr>
            <a:stCxn id="187" idx="3"/>
            <a:endCxn id="20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9" name="Rectangle 2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9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30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31"/>
          <p:cNvCxnSpPr>
            <a:stCxn id="210" idx="2"/>
            <a:endCxn id="211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3" name="Rectangle 32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', 1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', 2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', 1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$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$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INEAR (1, 'PINNED', $, #133, #133, #133, #134, #134, #134, #135, #135, #135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INEAR (1, 'FIXED END', $, #134, #134, #134, #136, #136, #136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25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7275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375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1625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825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9425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3025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325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3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1373040" y="133668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133668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Text Box 4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AutoShape 7"/>
          <p:cNvCxnSpPr>
            <a:stCxn id="219" idx="3"/>
            <a:endCxn id="22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3" name="Rectangle 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6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16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30" name="Freeform 14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17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20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34" name="Freeform 18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21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24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38" name="Freeform 22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23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Rectangle 25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27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0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3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6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7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8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9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40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1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2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43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4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45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6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7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8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49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0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1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2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3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56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66" name="Line 54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55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Line 57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60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63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4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5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6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67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71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276" name="Line 68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9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70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Rectangle 72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3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74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75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76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77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78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81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287" name="Line 79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80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2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83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4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87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293" name="Line 85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86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Line 88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9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90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93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4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95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6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7"/>
          <p:cNvCxnSpPr>
            <a:stCxn id="302" idx="3"/>
            <a:endCxn id="304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06" name="Rectangle 8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10Z</dcterms:modified>
  <cp:revision>76</cp:revision>
  <dc:subject/>
  <dc:title>No Slide Title</dc:title>
</cp:coreProperties>
</file>